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6B5-8E4B-44FA-9764-36EFFB0E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CA6F-D1ED-475B-A127-0D5C596C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C20-099C-45D5-A6EF-50E31D0C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931-ACC0-4781-A818-2B9E0E41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23D3-B4DA-4825-ACD1-2A1B84855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715C-B118-4309-BAB7-68F1CF05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4A81-2296-47E2-9E23-84F03E1B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22D4-DA12-4290-B053-1DB6458E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07FF-F9B0-44DE-97BA-1F0C98BC5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EBDB-108A-462C-AEAD-CDE88C84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F4F9-57D9-4450-8F45-2C793C22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8165-C73B-4A32-9CDA-00638726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5CD7-C6DB-487C-9219-C3ADB396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FED6-7974-44B7-9F1D-955D5802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AB92-FF2E-4BB0-B4BD-80FC5DB0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A521-F26E-41CE-BF37-19069D62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592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29492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592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882600"/>
            <a:ext cx="26744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9966-0198-4762-A93A-65DAF144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075-020E-4F8C-ADEE-38BE2E1D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0F1-8312-4193-AB6D-25E2F519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CE1-0557-4ED7-8A0D-D205A793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405-7579-4233-8F48-B787B1B0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450-38F8-4AB6-9264-AC4A68F6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8260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A01-C3E5-4595-B66A-8F89DEFF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294920"/>
            <a:ext cx="405324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82600"/>
            <a:ext cx="830592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1015-EAB1-4CA0-9744-890D41E8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9821-4E48-4A96-AAC5-55AD17A38A5E}" type="slidenum">
              <a:rPr b="1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4956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F453-2382-41B5-8A7B-C6EF04BAB081}" type="slidenum">
              <a:rPr b="0" lang="en-US" sz="10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LIPIDS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971800"/>
            <a:ext cx="7467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pids, triglyceride, unsaturated, saturated, phospholipids, cholesterol, wax, steroid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396252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ola oil, butter, salad dressing, mayonnaise, avoca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48A3-CBA4-42D4-A1DC-1B5CD9B0C19D}" type="slidenum">
              <a:t>1</a:t>
            </a:fld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indefinite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1" dur="indefinite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352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733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>
            <a:off x="3962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411480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/>
          <p:cNvSpPr/>
          <p:nvPr/>
        </p:nvSpPr>
        <p:spPr>
          <a:xfrm>
            <a:off x="434340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4495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4724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876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32000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2438280" y="1600200"/>
            <a:ext cx="1447560" cy="785520"/>
            <a:chOff x="2438280" y="1600200"/>
            <a:chExt cx="1447560" cy="785520"/>
          </a:xfrm>
        </p:grpSpPr>
        <p:sp>
          <p:nvSpPr>
            <p:cNvPr id="353" name=""/>
            <p:cNvSpPr/>
            <p:nvPr/>
          </p:nvSpPr>
          <p:spPr>
            <a:xfrm>
              <a:off x="2438280" y="16002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3047760" y="1898280"/>
              <a:ext cx="76320" cy="148680"/>
              <a:chOff x="3047760" y="1898280"/>
              <a:chExt cx="76320" cy="148680"/>
            </a:xfrm>
          </p:grpSpPr>
          <p:sp>
            <p:nvSpPr>
              <p:cNvPr id="355" name=""/>
              <p:cNvSpPr/>
              <p:nvPr/>
            </p:nvSpPr>
            <p:spPr>
              <a:xfrm>
                <a:off x="3047760" y="18982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124080" y="18982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 flipV="1">
            <a:off x="525780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548640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638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019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248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876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5105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257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638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5867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019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>
            <a:off x="6248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400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6629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4724280" y="37335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962520" y="3124080"/>
            <a:ext cx="1447560" cy="785520"/>
            <a:chOff x="3962520" y="3124080"/>
            <a:chExt cx="1447560" cy="785520"/>
          </a:xfrm>
        </p:grpSpPr>
        <p:sp>
          <p:nvSpPr>
            <p:cNvPr id="375" name=""/>
            <p:cNvSpPr/>
            <p:nvPr/>
          </p:nvSpPr>
          <p:spPr>
            <a:xfrm>
              <a:off x="3962520" y="312408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4572000" y="3422160"/>
              <a:ext cx="76320" cy="148680"/>
              <a:chOff x="4572000" y="3422160"/>
              <a:chExt cx="76320" cy="148680"/>
            </a:xfrm>
          </p:grpSpPr>
          <p:sp>
            <p:nvSpPr>
              <p:cNvPr id="377" name=""/>
              <p:cNvSpPr/>
              <p:nvPr/>
            </p:nvSpPr>
            <p:spPr>
              <a:xfrm>
                <a:off x="457200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64832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79" name=""/>
          <p:cNvSpPr/>
          <p:nvPr/>
        </p:nvSpPr>
        <p:spPr>
          <a:xfrm flipV="1">
            <a:off x="6781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7010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7162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7391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7543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7772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029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5257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"/>
          <p:cNvSpPr/>
          <p:nvPr/>
        </p:nvSpPr>
        <p:spPr>
          <a:xfrm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791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6019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6172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"/>
          <p:cNvSpPr/>
          <p:nvPr/>
        </p:nvSpPr>
        <p:spPr>
          <a:xfrm>
            <a:off x="6400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553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781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48765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114800" y="4572000"/>
            <a:ext cx="1447560" cy="785520"/>
            <a:chOff x="4114800" y="4572000"/>
            <a:chExt cx="1447560" cy="785520"/>
          </a:xfrm>
        </p:grpSpPr>
        <p:sp>
          <p:nvSpPr>
            <p:cNvPr id="397" name=""/>
            <p:cNvSpPr/>
            <p:nvPr/>
          </p:nvSpPr>
          <p:spPr>
            <a:xfrm>
              <a:off x="4114800" y="45720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724280" y="4870080"/>
              <a:ext cx="76320" cy="148680"/>
              <a:chOff x="4724280" y="4870080"/>
              <a:chExt cx="76320" cy="148680"/>
            </a:xfrm>
          </p:grpSpPr>
          <p:sp>
            <p:nvSpPr>
              <p:cNvPr id="399" name=""/>
              <p:cNvSpPr/>
              <p:nvPr/>
            </p:nvSpPr>
            <p:spPr>
              <a:xfrm>
                <a:off x="472428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0060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01" name=""/>
          <p:cNvSpPr/>
          <p:nvPr/>
        </p:nvSpPr>
        <p:spPr>
          <a:xfrm flipV="1">
            <a:off x="6934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"/>
          <p:cNvSpPr/>
          <p:nvPr/>
        </p:nvSpPr>
        <p:spPr>
          <a:xfrm>
            <a:off x="7162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7315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7543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7696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7924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/>
          <p:nvPr/>
        </p:nvSpPr>
        <p:spPr>
          <a:xfrm>
            <a:off x="2209680" y="198108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2514600" y="23623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09D-4ECD-41FD-BA1A-F8490645524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416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428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29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32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V="1">
            <a:off x="4876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"/>
          <p:cNvSpPr/>
          <p:nvPr/>
        </p:nvSpPr>
        <p:spPr>
          <a:xfrm>
            <a:off x="5105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257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5486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5638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"/>
          <p:cNvSpPr/>
          <p:nvPr/>
        </p:nvSpPr>
        <p:spPr>
          <a:xfrm>
            <a:off x="5867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6019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"/>
          <p:cNvSpPr/>
          <p:nvPr/>
        </p:nvSpPr>
        <p:spPr>
          <a:xfrm>
            <a:off x="6248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6400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4724280" y="37335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962520" y="3124080"/>
            <a:ext cx="1447560" cy="785520"/>
            <a:chOff x="3962520" y="3124080"/>
            <a:chExt cx="1447560" cy="785520"/>
          </a:xfrm>
        </p:grpSpPr>
        <p:sp>
          <p:nvSpPr>
            <p:cNvPr id="450" name=""/>
            <p:cNvSpPr/>
            <p:nvPr/>
          </p:nvSpPr>
          <p:spPr>
            <a:xfrm>
              <a:off x="3962520" y="312408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4572000" y="3422160"/>
              <a:ext cx="76320" cy="148680"/>
              <a:chOff x="4572000" y="3422160"/>
              <a:chExt cx="76320" cy="148680"/>
            </a:xfrm>
          </p:grpSpPr>
          <p:sp>
            <p:nvSpPr>
              <p:cNvPr id="452" name=""/>
              <p:cNvSpPr/>
              <p:nvPr/>
            </p:nvSpPr>
            <p:spPr>
              <a:xfrm>
                <a:off x="457200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64832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 flipV="1">
            <a:off x="6781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7162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"/>
          <p:cNvSpPr/>
          <p:nvPr/>
        </p:nvSpPr>
        <p:spPr>
          <a:xfrm>
            <a:off x="7391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7543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7772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029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"/>
          <p:cNvSpPr/>
          <p:nvPr/>
        </p:nvSpPr>
        <p:spPr>
          <a:xfrm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791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"/>
          <p:cNvSpPr/>
          <p:nvPr/>
        </p:nvSpPr>
        <p:spPr>
          <a:xfrm>
            <a:off x="6019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6172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6400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553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6781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48765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4114800" y="4572000"/>
            <a:ext cx="1447560" cy="785520"/>
            <a:chOff x="4114800" y="4572000"/>
            <a:chExt cx="1447560" cy="785520"/>
          </a:xfrm>
        </p:grpSpPr>
        <p:sp>
          <p:nvSpPr>
            <p:cNvPr id="472" name=""/>
            <p:cNvSpPr/>
            <p:nvPr/>
          </p:nvSpPr>
          <p:spPr>
            <a:xfrm>
              <a:off x="4114800" y="45720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4724280" y="4870080"/>
              <a:ext cx="76320" cy="148680"/>
              <a:chOff x="4724280" y="4870080"/>
              <a:chExt cx="76320" cy="148680"/>
            </a:xfrm>
          </p:grpSpPr>
          <p:sp>
            <p:nvSpPr>
              <p:cNvPr id="474" name=""/>
              <p:cNvSpPr/>
              <p:nvPr/>
            </p:nvSpPr>
            <p:spPr>
              <a:xfrm>
                <a:off x="472428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80060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476" name=""/>
          <p:cNvSpPr/>
          <p:nvPr/>
        </p:nvSpPr>
        <p:spPr>
          <a:xfrm flipV="1">
            <a:off x="6934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315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7543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7696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/>
          <p:cNvSpPr/>
          <p:nvPr/>
        </p:nvSpPr>
        <p:spPr>
          <a:xfrm>
            <a:off x="7924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743200" y="2590920"/>
            <a:ext cx="685800" cy="457200"/>
            <a:chOff x="2743200" y="2590920"/>
            <a:chExt cx="685800" cy="457200"/>
          </a:xfrm>
        </p:grpSpPr>
        <p:sp>
          <p:nvSpPr>
            <p:cNvPr id="483" name=""/>
            <p:cNvSpPr/>
            <p:nvPr/>
          </p:nvSpPr>
          <p:spPr>
            <a:xfrm>
              <a:off x="2743200" y="2666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743200" y="25909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8344-483F-4E05-AC19-C807E84B563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492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504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8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438280" y="2438280"/>
            <a:ext cx="3962160" cy="785520"/>
            <a:chOff x="2438280" y="2438280"/>
            <a:chExt cx="3962160" cy="785520"/>
          </a:xfrm>
        </p:grpSpPr>
        <p:sp>
          <p:nvSpPr>
            <p:cNvPr id="515" name=""/>
            <p:cNvSpPr/>
            <p:nvPr/>
          </p:nvSpPr>
          <p:spPr>
            <a:xfrm flipV="1">
              <a:off x="33526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58128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73356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6216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411444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34304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4956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2428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487656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0516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320004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2438280" y="2438280"/>
              <a:ext cx="1447560" cy="785520"/>
              <a:chOff x="2438280" y="2438280"/>
              <a:chExt cx="1447560" cy="785520"/>
            </a:xfrm>
          </p:grpSpPr>
          <p:sp>
            <p:nvSpPr>
              <p:cNvPr id="527" name=""/>
              <p:cNvSpPr/>
              <p:nvPr/>
            </p:nvSpPr>
            <p:spPr>
              <a:xfrm>
                <a:off x="243828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8" name=""/>
              <p:cNvGrpSpPr/>
              <p:nvPr/>
            </p:nvGrpSpPr>
            <p:grpSpPr>
              <a:xfrm>
                <a:off x="3047760" y="2736360"/>
                <a:ext cx="76320" cy="148680"/>
                <a:chOff x="3047760" y="2736360"/>
                <a:chExt cx="76320" cy="14868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304776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12408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31" name=""/>
            <p:cNvSpPr/>
            <p:nvPr/>
          </p:nvSpPr>
          <p:spPr>
            <a:xfrm flipV="1">
              <a:off x="525744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48604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56386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6728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601956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4816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37" name=""/>
          <p:cNvSpPr/>
          <p:nvPr/>
        </p:nvSpPr>
        <p:spPr>
          <a:xfrm flipV="1">
            <a:off x="5029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5257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791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"/>
          <p:cNvSpPr/>
          <p:nvPr/>
        </p:nvSpPr>
        <p:spPr>
          <a:xfrm>
            <a:off x="6019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172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6400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553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"/>
          <p:cNvSpPr/>
          <p:nvPr/>
        </p:nvSpPr>
        <p:spPr>
          <a:xfrm>
            <a:off x="6781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48765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114800" y="4572000"/>
            <a:ext cx="1447560" cy="785520"/>
            <a:chOff x="4114800" y="4572000"/>
            <a:chExt cx="1447560" cy="785520"/>
          </a:xfrm>
        </p:grpSpPr>
        <p:sp>
          <p:nvSpPr>
            <p:cNvPr id="549" name=""/>
            <p:cNvSpPr/>
            <p:nvPr/>
          </p:nvSpPr>
          <p:spPr>
            <a:xfrm>
              <a:off x="4114800" y="45720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4724280" y="4870080"/>
              <a:ext cx="76320" cy="148680"/>
              <a:chOff x="4724280" y="4870080"/>
              <a:chExt cx="76320" cy="148680"/>
            </a:xfrm>
          </p:grpSpPr>
          <p:sp>
            <p:nvSpPr>
              <p:cNvPr id="551" name=""/>
              <p:cNvSpPr/>
              <p:nvPr/>
            </p:nvSpPr>
            <p:spPr>
              <a:xfrm>
                <a:off x="472428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80060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53" name=""/>
          <p:cNvSpPr/>
          <p:nvPr/>
        </p:nvSpPr>
        <p:spPr>
          <a:xfrm flipV="1">
            <a:off x="6934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"/>
          <p:cNvSpPr/>
          <p:nvPr/>
        </p:nvSpPr>
        <p:spPr>
          <a:xfrm>
            <a:off x="7162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7315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"/>
          <p:cNvSpPr/>
          <p:nvPr/>
        </p:nvSpPr>
        <p:spPr>
          <a:xfrm>
            <a:off x="7543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7696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"/>
          <p:cNvSpPr/>
          <p:nvPr/>
        </p:nvSpPr>
        <p:spPr>
          <a:xfrm>
            <a:off x="7924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560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2209680" y="281952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6A7-BC34-4D2A-AC78-414C7D45034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570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81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582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83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86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38280" y="2438280"/>
            <a:ext cx="3962160" cy="785520"/>
            <a:chOff x="2438280" y="2438280"/>
            <a:chExt cx="3962160" cy="785520"/>
          </a:xfrm>
        </p:grpSpPr>
        <p:sp>
          <p:nvSpPr>
            <p:cNvPr id="593" name=""/>
            <p:cNvSpPr/>
            <p:nvPr/>
          </p:nvSpPr>
          <p:spPr>
            <a:xfrm flipV="1">
              <a:off x="33526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8128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373356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96216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411444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34304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44956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72428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487656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0516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320004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438280" y="2438280"/>
              <a:ext cx="1447560" cy="785520"/>
              <a:chOff x="2438280" y="2438280"/>
              <a:chExt cx="1447560" cy="785520"/>
            </a:xfrm>
          </p:grpSpPr>
          <p:sp>
            <p:nvSpPr>
              <p:cNvPr id="605" name=""/>
              <p:cNvSpPr/>
              <p:nvPr/>
            </p:nvSpPr>
            <p:spPr>
              <a:xfrm>
                <a:off x="243828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3047760" y="2736360"/>
                <a:ext cx="76320" cy="148680"/>
                <a:chOff x="3047760" y="2736360"/>
                <a:chExt cx="76320" cy="14868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04776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12408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09" name=""/>
            <p:cNvSpPr/>
            <p:nvPr/>
          </p:nvSpPr>
          <p:spPr>
            <a:xfrm flipV="1">
              <a:off x="525744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48604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56386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86728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01956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4816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5" name=""/>
          <p:cNvSpPr/>
          <p:nvPr/>
        </p:nvSpPr>
        <p:spPr>
          <a:xfrm flipV="1">
            <a:off x="5029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"/>
          <p:cNvSpPr/>
          <p:nvPr/>
        </p:nvSpPr>
        <p:spPr>
          <a:xfrm>
            <a:off x="5257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5791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"/>
          <p:cNvSpPr/>
          <p:nvPr/>
        </p:nvSpPr>
        <p:spPr>
          <a:xfrm>
            <a:off x="6019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6172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6400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6553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"/>
          <p:cNvSpPr/>
          <p:nvPr/>
        </p:nvSpPr>
        <p:spPr>
          <a:xfrm>
            <a:off x="6781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"/>
          <p:cNvSpPr/>
          <p:nvPr/>
        </p:nvSpPr>
        <p:spPr>
          <a:xfrm flipH="1" flipV="1">
            <a:off x="48765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114800" y="4572000"/>
            <a:ext cx="1447560" cy="785520"/>
            <a:chOff x="4114800" y="4572000"/>
            <a:chExt cx="1447560" cy="785520"/>
          </a:xfrm>
        </p:grpSpPr>
        <p:sp>
          <p:nvSpPr>
            <p:cNvPr id="627" name=""/>
            <p:cNvSpPr/>
            <p:nvPr/>
          </p:nvSpPr>
          <p:spPr>
            <a:xfrm>
              <a:off x="4114800" y="45720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4724280" y="4870080"/>
              <a:ext cx="76320" cy="148680"/>
              <a:chOff x="4724280" y="4870080"/>
              <a:chExt cx="76320" cy="148680"/>
            </a:xfrm>
          </p:grpSpPr>
          <p:sp>
            <p:nvSpPr>
              <p:cNvPr id="629" name=""/>
              <p:cNvSpPr/>
              <p:nvPr/>
            </p:nvSpPr>
            <p:spPr>
              <a:xfrm>
                <a:off x="472428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80060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31" name=""/>
          <p:cNvSpPr/>
          <p:nvPr/>
        </p:nvSpPr>
        <p:spPr>
          <a:xfrm flipV="1">
            <a:off x="6934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"/>
          <p:cNvSpPr/>
          <p:nvPr/>
        </p:nvSpPr>
        <p:spPr>
          <a:xfrm>
            <a:off x="7162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7315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7696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"/>
          <p:cNvSpPr/>
          <p:nvPr/>
        </p:nvSpPr>
        <p:spPr>
          <a:xfrm>
            <a:off x="7924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638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2209680" y="281952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2590920" y="3276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87D-2D5D-43FF-AD44-317DF06CBCA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649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661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62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65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1905120" y="2438280"/>
            <a:ext cx="3962160" cy="785520"/>
            <a:chOff x="1905120" y="2438280"/>
            <a:chExt cx="3962160" cy="785520"/>
          </a:xfrm>
        </p:grpSpPr>
        <p:sp>
          <p:nvSpPr>
            <p:cNvPr id="672" name=""/>
            <p:cNvSpPr/>
            <p:nvPr/>
          </p:nvSpPr>
          <p:spPr>
            <a:xfrm flipV="1">
              <a:off x="2819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048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3200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29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3581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09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3962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91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4343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72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266688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1905120" y="2438280"/>
              <a:ext cx="1447560" cy="785520"/>
              <a:chOff x="1905120" y="2438280"/>
              <a:chExt cx="1447560" cy="785520"/>
            </a:xfrm>
          </p:grpSpPr>
          <p:sp>
            <p:nvSpPr>
              <p:cNvPr id="684" name=""/>
              <p:cNvSpPr/>
              <p:nvPr/>
            </p:nvSpPr>
            <p:spPr>
              <a:xfrm>
                <a:off x="190512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2514600" y="2736360"/>
                <a:ext cx="76320" cy="148680"/>
                <a:chOff x="2514600" y="2736360"/>
                <a:chExt cx="76320" cy="14868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251460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9092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88" name=""/>
            <p:cNvSpPr/>
            <p:nvPr/>
          </p:nvSpPr>
          <p:spPr>
            <a:xfrm flipV="1">
              <a:off x="4724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52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5105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34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486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715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94" name=""/>
          <p:cNvSpPr/>
          <p:nvPr/>
        </p:nvSpPr>
        <p:spPr>
          <a:xfrm flipV="1">
            <a:off x="5029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"/>
          <p:cNvSpPr/>
          <p:nvPr/>
        </p:nvSpPr>
        <p:spPr>
          <a:xfrm>
            <a:off x="5257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"/>
          <p:cNvSpPr/>
          <p:nvPr/>
        </p:nvSpPr>
        <p:spPr>
          <a:xfrm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5791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"/>
          <p:cNvSpPr/>
          <p:nvPr/>
        </p:nvSpPr>
        <p:spPr>
          <a:xfrm>
            <a:off x="6019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172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"/>
          <p:cNvSpPr/>
          <p:nvPr/>
        </p:nvSpPr>
        <p:spPr>
          <a:xfrm>
            <a:off x="6400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6553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"/>
          <p:cNvSpPr/>
          <p:nvPr/>
        </p:nvSpPr>
        <p:spPr>
          <a:xfrm>
            <a:off x="6781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48765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4114800" y="4572000"/>
            <a:ext cx="1447560" cy="785520"/>
            <a:chOff x="4114800" y="4572000"/>
            <a:chExt cx="1447560" cy="785520"/>
          </a:xfrm>
        </p:grpSpPr>
        <p:sp>
          <p:nvSpPr>
            <p:cNvPr id="706" name=""/>
            <p:cNvSpPr/>
            <p:nvPr/>
          </p:nvSpPr>
          <p:spPr>
            <a:xfrm>
              <a:off x="4114800" y="45720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07" name=""/>
            <p:cNvGrpSpPr/>
            <p:nvPr/>
          </p:nvGrpSpPr>
          <p:grpSpPr>
            <a:xfrm>
              <a:off x="4724280" y="4870080"/>
              <a:ext cx="76320" cy="148680"/>
              <a:chOff x="4724280" y="4870080"/>
              <a:chExt cx="76320" cy="148680"/>
            </a:xfrm>
          </p:grpSpPr>
          <p:sp>
            <p:nvSpPr>
              <p:cNvPr id="708" name=""/>
              <p:cNvSpPr/>
              <p:nvPr/>
            </p:nvSpPr>
            <p:spPr>
              <a:xfrm>
                <a:off x="472428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80060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10" name=""/>
          <p:cNvSpPr/>
          <p:nvPr/>
        </p:nvSpPr>
        <p:spPr>
          <a:xfrm flipV="1">
            <a:off x="6934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"/>
          <p:cNvSpPr/>
          <p:nvPr/>
        </p:nvSpPr>
        <p:spPr>
          <a:xfrm>
            <a:off x="7162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7315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"/>
          <p:cNvSpPr/>
          <p:nvPr/>
        </p:nvSpPr>
        <p:spPr>
          <a:xfrm>
            <a:off x="7543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7696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"/>
          <p:cNvSpPr/>
          <p:nvPr/>
        </p:nvSpPr>
        <p:spPr>
          <a:xfrm>
            <a:off x="7924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6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717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2895480" y="3352680"/>
            <a:ext cx="685800" cy="457200"/>
            <a:chOff x="2895480" y="3352680"/>
            <a:chExt cx="685800" cy="457200"/>
          </a:xfrm>
        </p:grpSpPr>
        <p:sp>
          <p:nvSpPr>
            <p:cNvPr id="720" name=""/>
            <p:cNvSpPr/>
            <p:nvPr/>
          </p:nvSpPr>
          <p:spPr>
            <a:xfrm>
              <a:off x="2895480" y="3428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895480" y="335268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5E7-D24C-4445-94C0-F2E6477572E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729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741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42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45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1905120" y="2438280"/>
            <a:ext cx="3962160" cy="785520"/>
            <a:chOff x="1905120" y="2438280"/>
            <a:chExt cx="3962160" cy="785520"/>
          </a:xfrm>
        </p:grpSpPr>
        <p:sp>
          <p:nvSpPr>
            <p:cNvPr id="752" name=""/>
            <p:cNvSpPr/>
            <p:nvPr/>
          </p:nvSpPr>
          <p:spPr>
            <a:xfrm flipV="1">
              <a:off x="2819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48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3200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29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3581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809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3962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91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4343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572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266688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1905120" y="2438280"/>
              <a:ext cx="1447560" cy="785520"/>
              <a:chOff x="1905120" y="2438280"/>
              <a:chExt cx="1447560" cy="785520"/>
            </a:xfrm>
          </p:grpSpPr>
          <p:sp>
            <p:nvSpPr>
              <p:cNvPr id="764" name=""/>
              <p:cNvSpPr/>
              <p:nvPr/>
            </p:nvSpPr>
            <p:spPr>
              <a:xfrm>
                <a:off x="190512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65" name=""/>
              <p:cNvGrpSpPr/>
              <p:nvPr/>
            </p:nvGrpSpPr>
            <p:grpSpPr>
              <a:xfrm>
                <a:off x="2514600" y="2736360"/>
                <a:ext cx="76320" cy="148680"/>
                <a:chOff x="2514600" y="2736360"/>
                <a:chExt cx="76320" cy="148680"/>
              </a:xfrm>
            </p:grpSpPr>
            <p:sp>
              <p:nvSpPr>
                <p:cNvPr id="766" name=""/>
                <p:cNvSpPr/>
                <p:nvPr/>
              </p:nvSpPr>
              <p:spPr>
                <a:xfrm>
                  <a:off x="251460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59092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68" name=""/>
            <p:cNvSpPr/>
            <p:nvPr/>
          </p:nvSpPr>
          <p:spPr>
            <a:xfrm flipV="1">
              <a:off x="4724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52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5105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34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5486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715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74" name=""/>
          <p:cNvSpPr/>
          <p:nvPr/>
        </p:nvSpPr>
        <p:spPr>
          <a:xfrm flipV="1">
            <a:off x="3352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"/>
          <p:cNvSpPr/>
          <p:nvPr/>
        </p:nvSpPr>
        <p:spPr>
          <a:xfrm>
            <a:off x="3581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3733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"/>
          <p:cNvSpPr/>
          <p:nvPr/>
        </p:nvSpPr>
        <p:spPr>
          <a:xfrm>
            <a:off x="3962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411480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"/>
          <p:cNvSpPr/>
          <p:nvPr/>
        </p:nvSpPr>
        <p:spPr>
          <a:xfrm>
            <a:off x="434340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4495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"/>
          <p:cNvSpPr/>
          <p:nvPr/>
        </p:nvSpPr>
        <p:spPr>
          <a:xfrm>
            <a:off x="4724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4876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"/>
          <p:cNvSpPr/>
          <p:nvPr/>
        </p:nvSpPr>
        <p:spPr>
          <a:xfrm>
            <a:off x="5105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200040" y="3885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438280" y="3276720"/>
            <a:ext cx="1447560" cy="785520"/>
            <a:chOff x="2438280" y="3276720"/>
            <a:chExt cx="1447560" cy="785520"/>
          </a:xfrm>
        </p:grpSpPr>
        <p:sp>
          <p:nvSpPr>
            <p:cNvPr id="786" name=""/>
            <p:cNvSpPr/>
            <p:nvPr/>
          </p:nvSpPr>
          <p:spPr>
            <a:xfrm>
              <a:off x="2438280" y="327672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3047760" y="3574800"/>
              <a:ext cx="76320" cy="148680"/>
              <a:chOff x="3047760" y="3574800"/>
              <a:chExt cx="76320" cy="148680"/>
            </a:xfrm>
          </p:grpSpPr>
          <p:sp>
            <p:nvSpPr>
              <p:cNvPr id="788" name=""/>
              <p:cNvSpPr/>
              <p:nvPr/>
            </p:nvSpPr>
            <p:spPr>
              <a:xfrm>
                <a:off x="3047760" y="357480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124080" y="357480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790" name=""/>
          <p:cNvSpPr/>
          <p:nvPr/>
        </p:nvSpPr>
        <p:spPr>
          <a:xfrm flipV="1">
            <a:off x="525780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"/>
          <p:cNvSpPr/>
          <p:nvPr/>
        </p:nvSpPr>
        <p:spPr>
          <a:xfrm>
            <a:off x="548640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638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"/>
          <p:cNvSpPr/>
          <p:nvPr/>
        </p:nvSpPr>
        <p:spPr>
          <a:xfrm>
            <a:off x="5867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6019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"/>
          <p:cNvSpPr/>
          <p:nvPr/>
        </p:nvSpPr>
        <p:spPr>
          <a:xfrm>
            <a:off x="6248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797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209680" y="5791320"/>
            <a:ext cx="685800" cy="457200"/>
            <a:chOff x="2209680" y="5791320"/>
            <a:chExt cx="685800" cy="457200"/>
          </a:xfrm>
        </p:grpSpPr>
        <p:sp>
          <p:nvSpPr>
            <p:cNvPr id="800" name=""/>
            <p:cNvSpPr/>
            <p:nvPr/>
          </p:nvSpPr>
          <p:spPr>
            <a:xfrm>
              <a:off x="22096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2096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8390-887E-4175-950D-FAE1DCF2ED2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809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821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22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823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25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1905120" y="2438280"/>
            <a:ext cx="3962160" cy="785520"/>
            <a:chOff x="1905120" y="2438280"/>
            <a:chExt cx="3962160" cy="785520"/>
          </a:xfrm>
        </p:grpSpPr>
        <p:sp>
          <p:nvSpPr>
            <p:cNvPr id="832" name=""/>
            <p:cNvSpPr/>
            <p:nvPr/>
          </p:nvSpPr>
          <p:spPr>
            <a:xfrm flipV="1">
              <a:off x="2819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048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3200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29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3581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3962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191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4343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572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266688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1905120" y="2438280"/>
              <a:ext cx="1447560" cy="785520"/>
              <a:chOff x="1905120" y="2438280"/>
              <a:chExt cx="1447560" cy="785520"/>
            </a:xfrm>
          </p:grpSpPr>
          <p:sp>
            <p:nvSpPr>
              <p:cNvPr id="844" name=""/>
              <p:cNvSpPr/>
              <p:nvPr/>
            </p:nvSpPr>
            <p:spPr>
              <a:xfrm>
                <a:off x="190512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45" name=""/>
              <p:cNvGrpSpPr/>
              <p:nvPr/>
            </p:nvGrpSpPr>
            <p:grpSpPr>
              <a:xfrm>
                <a:off x="2514600" y="2736360"/>
                <a:ext cx="76320" cy="148680"/>
                <a:chOff x="2514600" y="2736360"/>
                <a:chExt cx="76320" cy="1486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251460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259092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48" name=""/>
            <p:cNvSpPr/>
            <p:nvPr/>
          </p:nvSpPr>
          <p:spPr>
            <a:xfrm flipV="1">
              <a:off x="4724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952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5105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34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5486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15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54" name=""/>
          <p:cNvSpPr/>
          <p:nvPr/>
        </p:nvSpPr>
        <p:spPr>
          <a:xfrm flipV="1">
            <a:off x="3352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"/>
          <p:cNvSpPr/>
          <p:nvPr/>
        </p:nvSpPr>
        <p:spPr>
          <a:xfrm>
            <a:off x="3581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3733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"/>
          <p:cNvSpPr/>
          <p:nvPr/>
        </p:nvSpPr>
        <p:spPr>
          <a:xfrm>
            <a:off x="3962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411480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"/>
          <p:cNvSpPr/>
          <p:nvPr/>
        </p:nvSpPr>
        <p:spPr>
          <a:xfrm>
            <a:off x="434340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4495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"/>
          <p:cNvSpPr/>
          <p:nvPr/>
        </p:nvSpPr>
        <p:spPr>
          <a:xfrm>
            <a:off x="4724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4876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"/>
          <p:cNvSpPr/>
          <p:nvPr/>
        </p:nvSpPr>
        <p:spPr>
          <a:xfrm>
            <a:off x="5105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"/>
          <p:cNvSpPr/>
          <p:nvPr/>
        </p:nvSpPr>
        <p:spPr>
          <a:xfrm flipH="1" flipV="1">
            <a:off x="3200040" y="3885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438280" y="3276720"/>
            <a:ext cx="1447560" cy="785520"/>
            <a:chOff x="2438280" y="3276720"/>
            <a:chExt cx="1447560" cy="785520"/>
          </a:xfrm>
        </p:grpSpPr>
        <p:sp>
          <p:nvSpPr>
            <p:cNvPr id="866" name=""/>
            <p:cNvSpPr/>
            <p:nvPr/>
          </p:nvSpPr>
          <p:spPr>
            <a:xfrm>
              <a:off x="2438280" y="327672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3047760" y="3574800"/>
              <a:ext cx="76320" cy="148680"/>
              <a:chOff x="3047760" y="3574800"/>
              <a:chExt cx="76320" cy="148680"/>
            </a:xfrm>
          </p:grpSpPr>
          <p:sp>
            <p:nvSpPr>
              <p:cNvPr id="868" name=""/>
              <p:cNvSpPr/>
              <p:nvPr/>
            </p:nvSpPr>
            <p:spPr>
              <a:xfrm>
                <a:off x="3047760" y="357480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124080" y="357480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870" name=""/>
          <p:cNvSpPr/>
          <p:nvPr/>
        </p:nvSpPr>
        <p:spPr>
          <a:xfrm flipV="1">
            <a:off x="525780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"/>
          <p:cNvSpPr/>
          <p:nvPr/>
        </p:nvSpPr>
        <p:spPr>
          <a:xfrm>
            <a:off x="548640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5638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"/>
          <p:cNvSpPr/>
          <p:nvPr/>
        </p:nvSpPr>
        <p:spPr>
          <a:xfrm>
            <a:off x="5867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6019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"/>
          <p:cNvSpPr/>
          <p:nvPr/>
        </p:nvSpPr>
        <p:spPr>
          <a:xfrm>
            <a:off x="6248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877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20968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"/>
          <p:cNvSpPr/>
          <p:nvPr/>
        </p:nvSpPr>
        <p:spPr>
          <a:xfrm>
            <a:off x="2209680" y="579132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"/>
          <p:cNvSpPr/>
          <p:nvPr/>
        </p:nvSpPr>
        <p:spPr>
          <a:xfrm>
            <a:off x="2209680" y="365760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AD52-A5DC-427A-9A4E-AC10BD94A61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889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901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02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05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905120" y="2438280"/>
            <a:ext cx="3962160" cy="785520"/>
            <a:chOff x="1905120" y="2438280"/>
            <a:chExt cx="3962160" cy="785520"/>
          </a:xfrm>
        </p:grpSpPr>
        <p:sp>
          <p:nvSpPr>
            <p:cNvPr id="912" name=""/>
            <p:cNvSpPr/>
            <p:nvPr/>
          </p:nvSpPr>
          <p:spPr>
            <a:xfrm flipV="1">
              <a:off x="2819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048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4" name=""/>
            <p:cNvSpPr/>
            <p:nvPr/>
          </p:nvSpPr>
          <p:spPr>
            <a:xfrm flipV="1">
              <a:off x="3200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29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3581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09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3962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91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4343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266688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1905120" y="2438280"/>
              <a:ext cx="1447560" cy="785520"/>
              <a:chOff x="1905120" y="2438280"/>
              <a:chExt cx="1447560" cy="785520"/>
            </a:xfrm>
          </p:grpSpPr>
          <p:sp>
            <p:nvSpPr>
              <p:cNvPr id="924" name=""/>
              <p:cNvSpPr/>
              <p:nvPr/>
            </p:nvSpPr>
            <p:spPr>
              <a:xfrm>
                <a:off x="190512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25" name=""/>
              <p:cNvGrpSpPr/>
              <p:nvPr/>
            </p:nvGrpSpPr>
            <p:grpSpPr>
              <a:xfrm>
                <a:off x="2514600" y="2736360"/>
                <a:ext cx="76320" cy="148680"/>
                <a:chOff x="2514600" y="2736360"/>
                <a:chExt cx="76320" cy="14868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251460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259092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28" name=""/>
            <p:cNvSpPr/>
            <p:nvPr/>
          </p:nvSpPr>
          <p:spPr>
            <a:xfrm flipV="1">
              <a:off x="4724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952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5105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334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5486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715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34" name=""/>
          <p:cNvSpPr/>
          <p:nvPr/>
        </p:nvSpPr>
        <p:spPr>
          <a:xfrm flipV="1">
            <a:off x="3352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733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7" name=""/>
          <p:cNvSpPr/>
          <p:nvPr/>
        </p:nvSpPr>
        <p:spPr>
          <a:xfrm>
            <a:off x="3962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411480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9" name=""/>
          <p:cNvSpPr/>
          <p:nvPr/>
        </p:nvSpPr>
        <p:spPr>
          <a:xfrm>
            <a:off x="434340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4495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"/>
          <p:cNvSpPr/>
          <p:nvPr/>
        </p:nvSpPr>
        <p:spPr>
          <a:xfrm>
            <a:off x="4724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4876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3" name=""/>
          <p:cNvSpPr/>
          <p:nvPr/>
        </p:nvSpPr>
        <p:spPr>
          <a:xfrm>
            <a:off x="5105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3200040" y="38858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45" name=""/>
          <p:cNvGrpSpPr/>
          <p:nvPr/>
        </p:nvGrpSpPr>
        <p:grpSpPr>
          <a:xfrm>
            <a:off x="2438280" y="3276720"/>
            <a:ext cx="1447560" cy="785520"/>
            <a:chOff x="2438280" y="3276720"/>
            <a:chExt cx="1447560" cy="785520"/>
          </a:xfrm>
        </p:grpSpPr>
        <p:sp>
          <p:nvSpPr>
            <p:cNvPr id="946" name=""/>
            <p:cNvSpPr/>
            <p:nvPr/>
          </p:nvSpPr>
          <p:spPr>
            <a:xfrm>
              <a:off x="2438280" y="327672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3047760" y="3574800"/>
              <a:ext cx="76320" cy="148680"/>
              <a:chOff x="3047760" y="3574800"/>
              <a:chExt cx="76320" cy="148680"/>
            </a:xfrm>
          </p:grpSpPr>
          <p:sp>
            <p:nvSpPr>
              <p:cNvPr id="948" name=""/>
              <p:cNvSpPr/>
              <p:nvPr/>
            </p:nvSpPr>
            <p:spPr>
              <a:xfrm>
                <a:off x="3047760" y="357480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24080" y="357480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950" name=""/>
          <p:cNvSpPr/>
          <p:nvPr/>
        </p:nvSpPr>
        <p:spPr>
          <a:xfrm flipV="1">
            <a:off x="525780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"/>
          <p:cNvSpPr/>
          <p:nvPr/>
        </p:nvSpPr>
        <p:spPr>
          <a:xfrm>
            <a:off x="548640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563868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"/>
          <p:cNvSpPr/>
          <p:nvPr/>
        </p:nvSpPr>
        <p:spPr>
          <a:xfrm>
            <a:off x="5867280" y="38098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019920" y="38095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"/>
          <p:cNvSpPr/>
          <p:nvPr/>
        </p:nvSpPr>
        <p:spPr>
          <a:xfrm>
            <a:off x="6248520" y="38098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957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220968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"/>
          <p:cNvSpPr/>
          <p:nvPr/>
        </p:nvSpPr>
        <p:spPr>
          <a:xfrm>
            <a:off x="2209680" y="579132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"/>
          <p:cNvSpPr/>
          <p:nvPr/>
        </p:nvSpPr>
        <p:spPr>
          <a:xfrm>
            <a:off x="2209680" y="365760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"/>
          <p:cNvSpPr/>
          <p:nvPr/>
        </p:nvSpPr>
        <p:spPr>
          <a:xfrm>
            <a:off x="2514600" y="4191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74D-8E61-4C0D-BAF5-2029C7A6959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970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81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982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83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984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86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8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1905120" y="2438280"/>
            <a:ext cx="3962160" cy="785520"/>
            <a:chOff x="1905120" y="2438280"/>
            <a:chExt cx="3962160" cy="785520"/>
          </a:xfrm>
        </p:grpSpPr>
        <p:sp>
          <p:nvSpPr>
            <p:cNvPr id="993" name=""/>
            <p:cNvSpPr/>
            <p:nvPr/>
          </p:nvSpPr>
          <p:spPr>
            <a:xfrm flipV="1">
              <a:off x="2819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48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3200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429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3581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809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3962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191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4343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72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266688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1905120" y="2438280"/>
              <a:ext cx="1447560" cy="785520"/>
              <a:chOff x="1905120" y="2438280"/>
              <a:chExt cx="1447560" cy="785520"/>
            </a:xfrm>
          </p:grpSpPr>
          <p:sp>
            <p:nvSpPr>
              <p:cNvPr id="1005" name=""/>
              <p:cNvSpPr/>
              <p:nvPr/>
            </p:nvSpPr>
            <p:spPr>
              <a:xfrm>
                <a:off x="190512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06" name=""/>
              <p:cNvGrpSpPr/>
              <p:nvPr/>
            </p:nvGrpSpPr>
            <p:grpSpPr>
              <a:xfrm>
                <a:off x="2514600" y="2736360"/>
                <a:ext cx="76320" cy="148680"/>
                <a:chOff x="2514600" y="2736360"/>
                <a:chExt cx="76320" cy="14868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251460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259092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09" name=""/>
            <p:cNvSpPr/>
            <p:nvPr/>
          </p:nvSpPr>
          <p:spPr>
            <a:xfrm flipV="1">
              <a:off x="4724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952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5105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334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5486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715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1981080" y="3276720"/>
            <a:ext cx="3962520" cy="785520"/>
            <a:chOff x="1981080" y="3276720"/>
            <a:chExt cx="3962520" cy="785520"/>
          </a:xfrm>
        </p:grpSpPr>
        <p:sp>
          <p:nvSpPr>
            <p:cNvPr id="1016" name=""/>
            <p:cNvSpPr/>
            <p:nvPr/>
          </p:nvSpPr>
          <p:spPr>
            <a:xfrm flipV="1">
              <a:off x="2895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124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V="1">
              <a:off x="3276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505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V="1">
              <a:off x="365760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88620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4038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267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4419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648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flipV="1">
              <a:off x="2742840" y="38858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7" name=""/>
            <p:cNvGrpSpPr/>
            <p:nvPr/>
          </p:nvGrpSpPr>
          <p:grpSpPr>
            <a:xfrm>
              <a:off x="1981080" y="3276720"/>
              <a:ext cx="1447560" cy="785520"/>
              <a:chOff x="1981080" y="3276720"/>
              <a:chExt cx="1447560" cy="785520"/>
            </a:xfrm>
          </p:grpSpPr>
          <p:sp>
            <p:nvSpPr>
              <p:cNvPr id="1028" name=""/>
              <p:cNvSpPr/>
              <p:nvPr/>
            </p:nvSpPr>
            <p:spPr>
              <a:xfrm>
                <a:off x="1981080" y="327672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29" name=""/>
              <p:cNvGrpSpPr/>
              <p:nvPr/>
            </p:nvGrpSpPr>
            <p:grpSpPr>
              <a:xfrm>
                <a:off x="2590560" y="3574800"/>
                <a:ext cx="76320" cy="148680"/>
                <a:chOff x="2590560" y="3574800"/>
                <a:chExt cx="76320" cy="14868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2590560" y="357480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2666880" y="357480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32" name=""/>
            <p:cNvSpPr/>
            <p:nvPr/>
          </p:nvSpPr>
          <p:spPr>
            <a:xfrm flipV="1">
              <a:off x="480060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2920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5181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410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5562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791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1039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220968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"/>
          <p:cNvSpPr/>
          <p:nvPr/>
        </p:nvSpPr>
        <p:spPr>
          <a:xfrm>
            <a:off x="2209680" y="579132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2743200" y="4495680"/>
            <a:ext cx="685800" cy="457200"/>
            <a:chOff x="2743200" y="4495680"/>
            <a:chExt cx="685800" cy="457200"/>
          </a:xfrm>
        </p:grpSpPr>
        <p:sp>
          <p:nvSpPr>
            <p:cNvPr id="1044" name=""/>
            <p:cNvSpPr/>
            <p:nvPr/>
          </p:nvSpPr>
          <p:spPr>
            <a:xfrm>
              <a:off x="2743200" y="45716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43200" y="449568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529C-CF59-4551-A008-D84FB312A71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2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1053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1065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66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1067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69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905120" y="2438280"/>
            <a:ext cx="3962160" cy="785520"/>
            <a:chOff x="1905120" y="2438280"/>
            <a:chExt cx="3962160" cy="785520"/>
          </a:xfrm>
        </p:grpSpPr>
        <p:sp>
          <p:nvSpPr>
            <p:cNvPr id="1076" name=""/>
            <p:cNvSpPr/>
            <p:nvPr/>
          </p:nvSpPr>
          <p:spPr>
            <a:xfrm flipV="1">
              <a:off x="2819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048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3200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29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3581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809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3962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191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4343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572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 flipV="1">
              <a:off x="266688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87" name=""/>
            <p:cNvGrpSpPr/>
            <p:nvPr/>
          </p:nvGrpSpPr>
          <p:grpSpPr>
            <a:xfrm>
              <a:off x="1905120" y="2438280"/>
              <a:ext cx="1447560" cy="785520"/>
              <a:chOff x="1905120" y="2438280"/>
              <a:chExt cx="1447560" cy="785520"/>
            </a:xfrm>
          </p:grpSpPr>
          <p:sp>
            <p:nvSpPr>
              <p:cNvPr id="1088" name=""/>
              <p:cNvSpPr/>
              <p:nvPr/>
            </p:nvSpPr>
            <p:spPr>
              <a:xfrm>
                <a:off x="190512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2514600" y="2736360"/>
                <a:ext cx="76320" cy="148680"/>
                <a:chOff x="2514600" y="2736360"/>
                <a:chExt cx="7632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251460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259092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092" name=""/>
            <p:cNvSpPr/>
            <p:nvPr/>
          </p:nvSpPr>
          <p:spPr>
            <a:xfrm flipV="1">
              <a:off x="4724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952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5105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334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5486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15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1981080" y="3276720"/>
            <a:ext cx="3962520" cy="785520"/>
            <a:chOff x="1981080" y="3276720"/>
            <a:chExt cx="3962520" cy="785520"/>
          </a:xfrm>
        </p:grpSpPr>
        <p:sp>
          <p:nvSpPr>
            <p:cNvPr id="1099" name=""/>
            <p:cNvSpPr/>
            <p:nvPr/>
          </p:nvSpPr>
          <p:spPr>
            <a:xfrm flipV="1">
              <a:off x="2895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124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3276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505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365760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88620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4038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267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4419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648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2742840" y="38858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1981080" y="3276720"/>
              <a:ext cx="1447560" cy="785520"/>
              <a:chOff x="1981080" y="3276720"/>
              <a:chExt cx="1447560" cy="785520"/>
            </a:xfrm>
          </p:grpSpPr>
          <p:sp>
            <p:nvSpPr>
              <p:cNvPr id="1111" name=""/>
              <p:cNvSpPr/>
              <p:nvPr/>
            </p:nvSpPr>
            <p:spPr>
              <a:xfrm>
                <a:off x="1981080" y="327672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12" name=""/>
              <p:cNvGrpSpPr/>
              <p:nvPr/>
            </p:nvGrpSpPr>
            <p:grpSpPr>
              <a:xfrm>
                <a:off x="2590560" y="3574800"/>
                <a:ext cx="76320" cy="148680"/>
                <a:chOff x="2590560" y="3574800"/>
                <a:chExt cx="76320" cy="14868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2590560" y="357480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666880" y="357480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15" name=""/>
            <p:cNvSpPr/>
            <p:nvPr/>
          </p:nvSpPr>
          <p:spPr>
            <a:xfrm flipV="1">
              <a:off x="480060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02920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5181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410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5562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791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1122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24" name=""/>
          <p:cNvSpPr/>
          <p:nvPr/>
        </p:nvSpPr>
        <p:spPr>
          <a:xfrm>
            <a:off x="220968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5" name=""/>
          <p:cNvSpPr/>
          <p:nvPr/>
        </p:nvSpPr>
        <p:spPr>
          <a:xfrm>
            <a:off x="2209680" y="579132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3200400" y="5791320"/>
            <a:ext cx="685800" cy="457200"/>
            <a:chOff x="3200400" y="5791320"/>
            <a:chExt cx="685800" cy="457200"/>
          </a:xfrm>
        </p:grpSpPr>
        <p:sp>
          <p:nvSpPr>
            <p:cNvPr id="1127" name=""/>
            <p:cNvSpPr/>
            <p:nvPr/>
          </p:nvSpPr>
          <p:spPr>
            <a:xfrm>
              <a:off x="320040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20040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CAFE-8936-44BC-B10E-5B422EB0526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Lip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Lipids are hydrophobic –”water fearing”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2971800"/>
            <a:ext cx="2057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Includes fats, waxes, steroids, &amp; oi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981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Do NOT mix with wa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819520" y="2590920"/>
            <a:ext cx="5790960" cy="2974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91320" y="5257800"/>
            <a:ext cx="485640" cy="685800"/>
          </a:xfrm>
          <a:prstGeom prst="upArrow">
            <a:avLst>
              <a:gd name="adj1" fmla="val 50000"/>
              <a:gd name="adj2" fmla="val 353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5867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 MOLECU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E5C-4018-4239-B3E9-BF77BF6D77FD}" type="slidenum">
              <a:t>2</a:t>
            </a:fld>
          </a:p>
        </p:txBody>
      </p:sp>
    </p:spTree>
  </p:cSld>
  <p:transition spd="med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/>
          <p:nvPr/>
        </p:nvSpPr>
        <p:spPr>
          <a:xfrm>
            <a:off x="1219320" y="9144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  <a:ea typeface="Arial"/>
              </a:rPr>
              <a:t>Tri</a:t>
            </a:r>
            <a:r>
              <a:rPr b="1" lang="en-US" sz="3600" spc="-1" strike="noStrike">
                <a:solidFill>
                  <a:srgbClr val="0066ff"/>
                </a:solidFill>
                <a:latin typeface="Comic Sans MS"/>
                <a:ea typeface="Arial"/>
              </a:rPr>
              <a:t>glycer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0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1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3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4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5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1905120" y="1600200"/>
            <a:ext cx="3961800" cy="785520"/>
            <a:chOff x="1905120" y="1600200"/>
            <a:chExt cx="3961800" cy="785520"/>
          </a:xfrm>
        </p:grpSpPr>
        <p:sp>
          <p:nvSpPr>
            <p:cNvPr id="1137" name=""/>
            <p:cNvSpPr/>
            <p:nvPr/>
          </p:nvSpPr>
          <p:spPr>
            <a:xfrm flipV="1">
              <a:off x="2819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047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3200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429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3581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809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3962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90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343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72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2666880" y="2209680"/>
              <a:ext cx="1519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48" name=""/>
            <p:cNvGrpSpPr/>
            <p:nvPr/>
          </p:nvGrpSpPr>
          <p:grpSpPr>
            <a:xfrm>
              <a:off x="1905120" y="1600200"/>
              <a:ext cx="1447560" cy="785520"/>
              <a:chOff x="1905120" y="1600200"/>
              <a:chExt cx="1447560" cy="785520"/>
            </a:xfrm>
          </p:grpSpPr>
          <p:sp>
            <p:nvSpPr>
              <p:cNvPr id="1149" name=""/>
              <p:cNvSpPr/>
              <p:nvPr/>
            </p:nvSpPr>
            <p:spPr>
              <a:xfrm>
                <a:off x="1905120" y="160020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50" name=""/>
              <p:cNvGrpSpPr/>
              <p:nvPr/>
            </p:nvGrpSpPr>
            <p:grpSpPr>
              <a:xfrm>
                <a:off x="2514600" y="1898280"/>
                <a:ext cx="76320" cy="148680"/>
                <a:chOff x="2514600" y="1898280"/>
                <a:chExt cx="76320" cy="14868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251460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2590920" y="189828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53" name=""/>
            <p:cNvSpPr/>
            <p:nvPr/>
          </p:nvSpPr>
          <p:spPr>
            <a:xfrm flipV="1">
              <a:off x="472428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95288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510516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333760" y="2133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5486400" y="2133360"/>
              <a:ext cx="228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715000" y="2133720"/>
              <a:ext cx="151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1905120" y="2438280"/>
            <a:ext cx="3962160" cy="785520"/>
            <a:chOff x="1905120" y="2438280"/>
            <a:chExt cx="3962160" cy="785520"/>
          </a:xfrm>
        </p:grpSpPr>
        <p:sp>
          <p:nvSpPr>
            <p:cNvPr id="1160" name=""/>
            <p:cNvSpPr/>
            <p:nvPr/>
          </p:nvSpPr>
          <p:spPr>
            <a:xfrm flipV="1">
              <a:off x="2819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048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3200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429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581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09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3962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91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343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72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flipV="1">
              <a:off x="2666880" y="3047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71" name=""/>
            <p:cNvGrpSpPr/>
            <p:nvPr/>
          </p:nvGrpSpPr>
          <p:grpSpPr>
            <a:xfrm>
              <a:off x="1905120" y="2438280"/>
              <a:ext cx="1447560" cy="785520"/>
              <a:chOff x="1905120" y="2438280"/>
              <a:chExt cx="1447560" cy="785520"/>
            </a:xfrm>
          </p:grpSpPr>
          <p:sp>
            <p:nvSpPr>
              <p:cNvPr id="1172" name=""/>
              <p:cNvSpPr/>
              <p:nvPr/>
            </p:nvSpPr>
            <p:spPr>
              <a:xfrm>
                <a:off x="1905120" y="243828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73" name=""/>
              <p:cNvGrpSpPr/>
              <p:nvPr/>
            </p:nvGrpSpPr>
            <p:grpSpPr>
              <a:xfrm>
                <a:off x="2514600" y="2736360"/>
                <a:ext cx="76320" cy="148680"/>
                <a:chOff x="2514600" y="2736360"/>
                <a:chExt cx="76320" cy="14868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251460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2590920" y="273636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76" name=""/>
            <p:cNvSpPr/>
            <p:nvPr/>
          </p:nvSpPr>
          <p:spPr>
            <a:xfrm flipV="1">
              <a:off x="472428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952880" y="2971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510552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3412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5486400" y="297144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715000" y="29718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1981080" y="3276720"/>
            <a:ext cx="3962520" cy="785520"/>
            <a:chOff x="1981080" y="3276720"/>
            <a:chExt cx="3962520" cy="785520"/>
          </a:xfrm>
        </p:grpSpPr>
        <p:sp>
          <p:nvSpPr>
            <p:cNvPr id="1183" name=""/>
            <p:cNvSpPr/>
            <p:nvPr/>
          </p:nvSpPr>
          <p:spPr>
            <a:xfrm flipV="1">
              <a:off x="2895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124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3276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05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365760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88620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4038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67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419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48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 flipV="1">
              <a:off x="2742840" y="38858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1981080" y="3276720"/>
              <a:ext cx="1447560" cy="785520"/>
              <a:chOff x="1981080" y="3276720"/>
              <a:chExt cx="1447560" cy="785520"/>
            </a:xfrm>
          </p:grpSpPr>
          <p:sp>
            <p:nvSpPr>
              <p:cNvPr id="1195" name=""/>
              <p:cNvSpPr/>
              <p:nvPr/>
            </p:nvSpPr>
            <p:spPr>
              <a:xfrm>
                <a:off x="1981080" y="3276720"/>
                <a:ext cx="144756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–C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196" name=""/>
              <p:cNvGrpSpPr/>
              <p:nvPr/>
            </p:nvGrpSpPr>
            <p:grpSpPr>
              <a:xfrm>
                <a:off x="2590560" y="3574800"/>
                <a:ext cx="76320" cy="148680"/>
                <a:chOff x="2590560" y="3574800"/>
                <a:chExt cx="76320" cy="14868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2590560" y="357480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2666880" y="3574800"/>
                  <a:ext cx="0" cy="1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199" name=""/>
            <p:cNvSpPr/>
            <p:nvPr/>
          </p:nvSpPr>
          <p:spPr>
            <a:xfrm flipV="1">
              <a:off x="480060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02920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518148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410080" y="380988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5562720" y="38095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791320" y="38098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5" name=""/>
          <p:cNvGrpSpPr/>
          <p:nvPr/>
        </p:nvGrpSpPr>
        <p:grpSpPr>
          <a:xfrm>
            <a:off x="1295280" y="5791320"/>
            <a:ext cx="685800" cy="457200"/>
            <a:chOff x="1295280" y="5791320"/>
            <a:chExt cx="685800" cy="457200"/>
          </a:xfrm>
        </p:grpSpPr>
        <p:sp>
          <p:nvSpPr>
            <p:cNvPr id="1206" name=""/>
            <p:cNvSpPr/>
            <p:nvPr/>
          </p:nvSpPr>
          <p:spPr>
            <a:xfrm>
              <a:off x="129528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29528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08" name=""/>
          <p:cNvSpPr/>
          <p:nvPr/>
        </p:nvSpPr>
        <p:spPr>
          <a:xfrm>
            <a:off x="220968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"/>
          <p:cNvSpPr/>
          <p:nvPr/>
        </p:nvSpPr>
        <p:spPr>
          <a:xfrm>
            <a:off x="2209680" y="579132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3200400" y="5791320"/>
            <a:ext cx="685800" cy="457200"/>
            <a:chOff x="3200400" y="5791320"/>
            <a:chExt cx="685800" cy="457200"/>
          </a:xfrm>
        </p:grpSpPr>
        <p:sp>
          <p:nvSpPr>
            <p:cNvPr id="1211" name=""/>
            <p:cNvSpPr/>
            <p:nvPr/>
          </p:nvSpPr>
          <p:spPr>
            <a:xfrm>
              <a:off x="3200400" y="5867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200400" y="5791320"/>
              <a:ext cx="533160" cy="4572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3" name=""/>
          <p:cNvSpPr/>
          <p:nvPr/>
        </p:nvSpPr>
        <p:spPr>
          <a:xfrm>
            <a:off x="1143000" y="5257800"/>
            <a:ext cx="7315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ater from Condensation/dehydration synthesi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3C88-787E-458B-9C3A-7F1076805D9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ypes of Fatty Ac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Unsaturated fatty acids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 (better fats ie: oil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Contain a double bond between carbons (liquid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"/>
          <p:cNvSpPr/>
          <p:nvPr/>
        </p:nvSpPr>
        <p:spPr>
          <a:xfrm>
            <a:off x="533520" y="3505320"/>
            <a:ext cx="8076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aturated fatty acids</a:t>
            </a: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 (bad fats ie: shortenin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All single bonds between carbons (solid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2D3-77DE-4311-BF0D-2EF478D5C361}" type="slidenum">
              <a:t>21</a:t>
            </a:fld>
          </a:p>
        </p:txBody>
      </p:sp>
    </p:spTree>
  </p:cSld>
  <p:transition spd="slow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ypes of Fatty Ac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7925040" cy="4637160"/>
          </a:xfrm>
          <a:prstGeom prst="rect">
            <a:avLst/>
          </a:prstGeom>
          <a:ln w="0">
            <a:noFill/>
          </a:ln>
        </p:spPr>
      </p:pic>
      <p:sp>
        <p:nvSpPr>
          <p:cNvPr id="1219" name=""/>
          <p:cNvSpPr/>
          <p:nvPr/>
        </p:nvSpPr>
        <p:spPr>
          <a:xfrm>
            <a:off x="7848720" y="289548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Bonds in Carbon ch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"/>
          <p:cNvSpPr/>
          <p:nvPr/>
        </p:nvSpPr>
        <p:spPr>
          <a:xfrm>
            <a:off x="2743200" y="55627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 bond in carbon cha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4114800" y="4419360"/>
            <a:ext cx="182880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D838-FB31-4EEF-A771-C814FC8B0E78}" type="slidenum">
              <a:t>22</a:t>
            </a:fld>
          </a:p>
        </p:txBody>
      </p:sp>
    </p:spTree>
  </p:cSld>
  <p:transition spd="med">
    <p:fade thruBlk="true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ats in Organism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Most animal fats have a high proportion of saturated fatty acids &amp; exist as solids at room temperature (butter, margarine, shortening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4" name="" descr=""/>
          <p:cNvPicPr/>
          <p:nvPr/>
        </p:nvPicPr>
        <p:blipFill>
          <a:blip r:embed="rId2"/>
          <a:stretch/>
        </p:blipFill>
        <p:spPr>
          <a:xfrm>
            <a:off x="1295280" y="3429000"/>
            <a:ext cx="3048120" cy="2779560"/>
          </a:xfrm>
          <a:prstGeom prst="rect">
            <a:avLst/>
          </a:prstGeom>
          <a:ln w="0">
            <a:noFill/>
          </a:ln>
        </p:spPr>
      </p:pic>
      <p:pic>
        <p:nvPicPr>
          <p:cNvPr id="1225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059-4CDD-4272-ABE1-5B4C081633ED}" type="slidenum">
              <a:t>23</a:t>
            </a:fld>
          </a:p>
        </p:txBody>
      </p:sp>
    </p:spTree>
  </p:cSld>
  <p:transition spd="med">
    <p:fade thruBlk="true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ats in Organism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Most plant oils tend to be low in saturated fatty acids &amp; exist as liquids at room temperature (oils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8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6477120" cy="3167280"/>
          </a:xfrm>
          <a:prstGeom prst="rect">
            <a:avLst/>
          </a:prstGeom>
          <a:ln w="0">
            <a:noFill/>
          </a:ln>
        </p:spPr>
      </p:pic>
      <p:sp>
        <p:nvSpPr>
          <p:cNvPr id="1229" name=""/>
          <p:cNvSpPr/>
          <p:nvPr/>
        </p:nvSpPr>
        <p:spPr>
          <a:xfrm>
            <a:off x="6094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lyunsaturated 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"/>
          <p:cNvSpPr/>
          <p:nvPr/>
        </p:nvSpPr>
        <p:spPr>
          <a:xfrm>
            <a:off x="4267080" y="5546880"/>
            <a:ext cx="40388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ny double bo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"/>
          <p:cNvSpPr/>
          <p:nvPr/>
        </p:nvSpPr>
        <p:spPr>
          <a:xfrm>
            <a:off x="7315200" y="32767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Kristen ITC"/>
              </a:rPr>
              <a:t>*Best Choice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B4E-125A-4D83-A292-683A4581C06A}" type="slidenum">
              <a:t>24</a:t>
            </a:fld>
          </a:p>
        </p:txBody>
      </p:sp>
    </p:spTree>
  </p:cSld>
  <p:transition spd="med">
    <p:fade thruBlk="true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8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2" name="" descr="[Cis and Trans Bonds]"/>
          <p:cNvPicPr/>
          <p:nvPr/>
        </p:nvPicPr>
        <p:blipFill>
          <a:blip r:embed="rId2"/>
          <a:stretch/>
        </p:blipFill>
        <p:spPr>
          <a:xfrm>
            <a:off x="762120" y="1249200"/>
            <a:ext cx="7543800" cy="5148360"/>
          </a:xfrm>
          <a:prstGeom prst="rect">
            <a:avLst/>
          </a:prstGeom>
          <a:ln w="0">
            <a:noFill/>
          </a:ln>
        </p:spPr>
      </p:pic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ypes of Fatty Ac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7A3-A27E-48EA-B30A-D86ADACFDBA5}" type="slidenum">
              <a:t>25</a:t>
            </a:fld>
          </a:p>
        </p:txBody>
      </p:sp>
    </p:spTree>
  </p:cSld>
  <p:transition spd="med">
    <p:fade thruBlk="true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rans Fat (the “Ugly” fat)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mic Sans MS"/>
              </a:rPr>
              <a:t>Usually made from cis-unsaturated fats in an industrial process called “hydrogenation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CA" sz="2800" spc="-1" strike="noStrike">
                <a:solidFill>
                  <a:srgbClr val="000000"/>
                </a:solidFill>
                <a:latin typeface="Comic Sans MS"/>
              </a:rPr>
              <a:t>Hydrogenation” – conversion of unsaturated to saturated (solids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mic Sans MS"/>
              </a:rPr>
              <a:t>Have longer shelf lif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omic Sans MS"/>
              </a:rPr>
              <a:t>They increase LDL cholesterol levels and decrease HDL cholesterol levels 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0000"/>
                </a:solidFill>
                <a:uFillTx/>
                <a:latin typeface="Comic Sans MS"/>
              </a:rPr>
              <a:t>Harmful</a:t>
            </a:r>
            <a:r>
              <a:rPr b="1" lang="en-CA" sz="2800" spc="-1" strike="noStrike">
                <a:solidFill>
                  <a:srgbClr val="000000"/>
                </a:solidFill>
                <a:latin typeface="Comic Sans MS"/>
              </a:rPr>
              <a:t> as saturated fats – or WORSE!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A869-58AB-4E15-8301-7490D6F71BFB}" type="slidenum">
              <a:t>26</a:t>
            </a:fld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Cholesterol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 “bad guy!” Our bodies make about 2 g of cholesterol per day, and that makes up about 85% of blood cholesterol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nly about 15% comes from dietary sources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nd naturally in cell membranes and used to synthesize certain hormones – sex hormones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wo types of Cholestero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DL’s - Low Density Lipoproteins (bad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DL’s – High Density Lipoproteins (good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reducing processed breads, pasta, and other highly saturated foods can help decrease LDL accumulation*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"/>
          <p:cNvSpPr/>
          <p:nvPr/>
        </p:nvSpPr>
        <p:spPr>
          <a:xfrm>
            <a:off x="6172200" y="49528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AFD-2361-4C26-83EE-E8C61EC4757E}" type="slidenum">
              <a:t>27</a:t>
            </a:fld>
          </a:p>
        </p:txBody>
      </p:sp>
    </p:spTree>
  </p:cSld>
  <p:transition spd="med">
    <p:fade thruBlk="true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Comic Sans MS"/>
              </a:rPr>
              <a:t>30%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 of the total energy intake should be in the form of fats.</a:t>
            </a:r>
            <a:endParaRPr b="1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rbohydrates and proteins (4kcal/g) of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nerg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0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9kcal/g for every gram of fat energ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__g of Carbs X 4kcal/g = __kcal </a:t>
            </a:r>
            <a:endParaRPr b="1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__g of fat X 9kcal/g = __kcal</a:t>
            </a:r>
            <a:endParaRPr b="1" lang="en-US" sz="29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Comic Sans MS"/>
              </a:rPr>
              <a:t>__g of proteins X 4kcal/g = __kcal</a:t>
            </a:r>
            <a:endParaRPr b="1" lang="en-US" sz="2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a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98F-1A3C-4904-AC11-5804D3954B95}" type="slidenum">
              <a:t>28</a:t>
            </a:fld>
          </a:p>
        </p:txBody>
      </p:sp>
    </p:spTree>
  </p:cSld>
  <p:transition spd="med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tero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3809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mic Sans MS"/>
              </a:rPr>
              <a:t>The carbon skeleton of steroids is bent to form 4 fused ring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"/>
          <p:cNvSpPr/>
          <p:nvPr/>
        </p:nvSpPr>
        <p:spPr>
          <a:xfrm>
            <a:off x="304920" y="2819520"/>
            <a:ext cx="33526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Comic Sans MS"/>
              </a:rPr>
              <a:t>Cholesterol is the “base steroid” from which your body produces other steroids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"/>
          <p:cNvSpPr/>
          <p:nvPr/>
        </p:nvSpPr>
        <p:spPr>
          <a:xfrm>
            <a:off x="228600" y="5715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4c26"/>
                </a:solidFill>
                <a:latin typeface="Comic Sans MS"/>
              </a:rPr>
              <a:t>Estrogen &amp; Testosterone are also steroi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5" name="" descr=""/>
          <p:cNvPicPr/>
          <p:nvPr/>
        </p:nvPicPr>
        <p:blipFill>
          <a:blip r:embed="rId2"/>
          <a:srcRect l="1626" t="834" r="1626" b="10869"/>
          <a:stretch/>
        </p:blipFill>
        <p:spPr>
          <a:xfrm>
            <a:off x="4114800" y="1447920"/>
            <a:ext cx="4800600" cy="4062240"/>
          </a:xfrm>
          <a:prstGeom prst="rect">
            <a:avLst/>
          </a:prstGeom>
          <a:ln w="0">
            <a:noFill/>
          </a:ln>
        </p:spPr>
      </p:pic>
      <p:sp>
        <p:nvSpPr>
          <p:cNvPr id="1246" name=""/>
          <p:cNvSpPr/>
          <p:nvPr/>
        </p:nvSpPr>
        <p:spPr>
          <a:xfrm>
            <a:off x="6934320" y="22860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"/>
          <p:cNvSpPr/>
          <p:nvPr/>
        </p:nvSpPr>
        <p:spPr>
          <a:xfrm>
            <a:off x="3886200" y="37339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"/>
          <p:cNvSpPr/>
          <p:nvPr/>
        </p:nvSpPr>
        <p:spPr>
          <a:xfrm>
            <a:off x="7162920" y="34290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"/>
          <p:cNvSpPr/>
          <p:nvPr/>
        </p:nvSpPr>
        <p:spPr>
          <a:xfrm>
            <a:off x="4495680" y="4114800"/>
            <a:ext cx="4572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"/>
          <p:cNvSpPr/>
          <p:nvPr/>
        </p:nvSpPr>
        <p:spPr>
          <a:xfrm flipH="1" flipV="1">
            <a:off x="6553080" y="182880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"/>
          <p:cNvSpPr/>
          <p:nvPr/>
        </p:nvSpPr>
        <p:spPr>
          <a:xfrm>
            <a:off x="7620120" y="37339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19E7-CBAB-47E6-B8B6-C583CAB55D22}" type="slidenum">
              <a:t>29</a:t>
            </a:fld>
          </a:p>
        </p:txBody>
      </p:sp>
    </p:spTree>
  </p:cSld>
  <p:transition spd="med">
    <p:fade thruBlk="true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unction of Lip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  <a:ea typeface="Arial"/>
              </a:rPr>
              <a:t>Fats store energy, help to insulate the body, and cushion and protect organs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133720" y="2590920"/>
            <a:ext cx="4800600" cy="36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ED7-8D23-4EE2-BE00-FF7AE2EA9A4E}" type="slidenum">
              <a:t>3</a:t>
            </a:fld>
          </a:p>
        </p:txBody>
      </p:sp>
    </p:spTree>
  </p:cSld>
  <p:transition spd="med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ynthetic Anabolic Steroid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76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They are variants of testosteron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"/>
          <p:cNvSpPr/>
          <p:nvPr/>
        </p:nvSpPr>
        <p:spPr>
          <a:xfrm>
            <a:off x="380880" y="2514600"/>
            <a:ext cx="43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ome athletes use them to build up their muscles quick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"/>
          <p:cNvSpPr/>
          <p:nvPr/>
        </p:nvSpPr>
        <p:spPr>
          <a:xfrm>
            <a:off x="457200" y="44197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hey can pose serious health ris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2"/>
          <a:srcRect l="3699" t="0" r="0" b="3080"/>
          <a:stretch/>
        </p:blipFill>
        <p:spPr>
          <a:xfrm>
            <a:off x="5029200" y="1219320"/>
            <a:ext cx="3720960" cy="45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2155-4FD3-4D5E-A951-820772923E62}" type="slidenum">
              <a:t>30</a:t>
            </a:fld>
          </a:p>
        </p:txBody>
      </p:sp>
    </p:spTree>
  </p:cSld>
  <p:transition spd="med">
    <p:fade thruBlk="true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at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Dietary fat consists of the molecule triglyceride composed of glycerol and three fatty acid chai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916" t="863" r="1695" b="56257"/>
          <a:stretch/>
        </p:blipFill>
        <p:spPr>
          <a:xfrm>
            <a:off x="533520" y="2819520"/>
            <a:ext cx="8088120" cy="29210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5257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lyce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733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tty Acid Ch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58672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Comic Sans MS"/>
              </a:rPr>
              <a:t>Dehydration/Condensation links the fatty acids to Glycer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133360" y="4495680"/>
            <a:ext cx="53316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E9F-F5A9-4F44-AD2E-0F6818B0B28A}" type="slidenum">
              <a:t>4</a:t>
            </a:fld>
          </a:p>
        </p:txBody>
      </p:sp>
    </p:spTree>
  </p:cSld>
  <p:transition spd="med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riglyceride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Monomer of lipid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373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Composed of Glycerol &amp; 3 fatty acid cha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403848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Glycerol forms the “backbone” of the f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038840" cy="297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248520" y="4724280"/>
            <a:ext cx="609480" cy="609840"/>
          </a:xfrm>
          <a:prstGeom prst="upArrow">
            <a:avLst>
              <a:gd name="adj1" fmla="val 50000"/>
              <a:gd name="adj2" fmla="val 250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5410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ganic Alcoh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2B7-A456-45D2-906D-B28D4D27FD0C}" type="slidenum">
              <a:t>5</a:t>
            </a:fld>
          </a:p>
        </p:txBody>
      </p:sp>
    </p:spTree>
  </p:cSld>
  <p:transition spd="med"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riglycer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916" t="45506" r="1695" b="4129"/>
          <a:stretch/>
        </p:blipFill>
        <p:spPr>
          <a:xfrm>
            <a:off x="304920" y="1981080"/>
            <a:ext cx="8458200" cy="3587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5257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838080" y="47242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51814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tty Acid Chai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962520" y="43430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62520" y="3580920"/>
            <a:ext cx="9144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2590920" y="2819160"/>
            <a:ext cx="137160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633-1C09-4486-AF1A-1FB9CDC0FDB1}" type="slidenum">
              <a:t>6</a:t>
            </a:fld>
          </a:p>
        </p:txBody>
      </p:sp>
    </p:spTree>
  </p:cSld>
  <p:transition spd="med"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80060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209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18148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2209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56272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2209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94360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2209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32448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2209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4647960" y="22856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86200" y="1676520"/>
            <a:ext cx="1447560" cy="785520"/>
            <a:chOff x="3886200" y="1676520"/>
            <a:chExt cx="1447560" cy="785520"/>
          </a:xfrm>
        </p:grpSpPr>
        <p:sp>
          <p:nvSpPr>
            <p:cNvPr id="134" name=""/>
            <p:cNvSpPr/>
            <p:nvPr/>
          </p:nvSpPr>
          <p:spPr>
            <a:xfrm>
              <a:off x="3886200" y="167652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4495680" y="1974600"/>
              <a:ext cx="76320" cy="148680"/>
              <a:chOff x="4495680" y="1974600"/>
              <a:chExt cx="76320" cy="148680"/>
            </a:xfrm>
          </p:grpSpPr>
          <p:sp>
            <p:nvSpPr>
              <p:cNvPr id="136" name=""/>
              <p:cNvSpPr/>
              <p:nvPr/>
            </p:nvSpPr>
            <p:spPr>
              <a:xfrm>
                <a:off x="4495680" y="197460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572000" y="197460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 flipV="1">
            <a:off x="670572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>
            <a:off x="6934320" y="2209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08660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2209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467480" y="2209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2209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876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257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638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019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400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4724280" y="37335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962520" y="3124080"/>
            <a:ext cx="1447560" cy="785520"/>
            <a:chOff x="3962520" y="3124080"/>
            <a:chExt cx="1447560" cy="785520"/>
          </a:xfrm>
        </p:grpSpPr>
        <p:sp>
          <p:nvSpPr>
            <p:cNvPr id="156" name=""/>
            <p:cNvSpPr/>
            <p:nvPr/>
          </p:nvSpPr>
          <p:spPr>
            <a:xfrm>
              <a:off x="3962520" y="312408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572000" y="3422160"/>
              <a:ext cx="76320" cy="148680"/>
              <a:chOff x="4572000" y="3422160"/>
              <a:chExt cx="76320" cy="148680"/>
            </a:xfrm>
          </p:grpSpPr>
          <p:sp>
            <p:nvSpPr>
              <p:cNvPr id="158" name=""/>
              <p:cNvSpPr/>
              <p:nvPr/>
            </p:nvSpPr>
            <p:spPr>
              <a:xfrm>
                <a:off x="457200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4832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60" name=""/>
          <p:cNvSpPr/>
          <p:nvPr/>
        </p:nvSpPr>
        <p:spPr>
          <a:xfrm flipV="1">
            <a:off x="6781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162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391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543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7772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5029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791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172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553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6781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48765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114800" y="4572000"/>
            <a:ext cx="1447560" cy="785520"/>
            <a:chOff x="4114800" y="4572000"/>
            <a:chExt cx="1447560" cy="785520"/>
          </a:xfrm>
        </p:grpSpPr>
        <p:sp>
          <p:nvSpPr>
            <p:cNvPr id="178" name=""/>
            <p:cNvSpPr/>
            <p:nvPr/>
          </p:nvSpPr>
          <p:spPr>
            <a:xfrm>
              <a:off x="4114800" y="45720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724280" y="4870080"/>
              <a:ext cx="76320" cy="148680"/>
              <a:chOff x="4724280" y="4870080"/>
              <a:chExt cx="76320" cy="148680"/>
            </a:xfrm>
          </p:grpSpPr>
          <p:sp>
            <p:nvSpPr>
              <p:cNvPr id="180" name=""/>
              <p:cNvSpPr/>
              <p:nvPr/>
            </p:nvSpPr>
            <p:spPr>
              <a:xfrm>
                <a:off x="472428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0060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 flipV="1">
            <a:off x="6934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315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7924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10666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  <a:ea typeface="Arial"/>
              </a:rPr>
              <a:t>Glycerol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10666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ff"/>
                </a:solidFill>
                <a:latin typeface="Arial"/>
                <a:ea typeface="Arial"/>
              </a:rPr>
              <a:t>Fatty Acids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461-7798-43D9-B6A1-B4B9D8A57D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3352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3733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11480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95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4724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876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/>
          <p:nvPr/>
        </p:nvSpPr>
        <p:spPr>
          <a:xfrm>
            <a:off x="5105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2000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438280" y="1600200"/>
            <a:ext cx="1447560" cy="785520"/>
            <a:chOff x="2438280" y="1600200"/>
            <a:chExt cx="1447560" cy="785520"/>
          </a:xfrm>
        </p:grpSpPr>
        <p:sp>
          <p:nvSpPr>
            <p:cNvPr id="208" name=""/>
            <p:cNvSpPr/>
            <p:nvPr/>
          </p:nvSpPr>
          <p:spPr>
            <a:xfrm>
              <a:off x="2438280" y="16002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047760" y="1898280"/>
              <a:ext cx="76320" cy="148680"/>
              <a:chOff x="3047760" y="1898280"/>
              <a:chExt cx="76320" cy="148680"/>
            </a:xfrm>
          </p:grpSpPr>
          <p:sp>
            <p:nvSpPr>
              <p:cNvPr id="210" name=""/>
              <p:cNvSpPr/>
              <p:nvPr/>
            </p:nvSpPr>
            <p:spPr>
              <a:xfrm>
                <a:off x="3047760" y="18982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124080" y="18982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 flipV="1">
            <a:off x="525780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638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019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876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257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5486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638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019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6248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400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/>
          <p:nvPr/>
        </p:nvSpPr>
        <p:spPr>
          <a:xfrm>
            <a:off x="6629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724280" y="37335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62520" y="3124080"/>
            <a:ext cx="1447560" cy="785520"/>
            <a:chOff x="3962520" y="3124080"/>
            <a:chExt cx="1447560" cy="785520"/>
          </a:xfrm>
        </p:grpSpPr>
        <p:sp>
          <p:nvSpPr>
            <p:cNvPr id="230" name=""/>
            <p:cNvSpPr/>
            <p:nvPr/>
          </p:nvSpPr>
          <p:spPr>
            <a:xfrm>
              <a:off x="3962520" y="312408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572000" y="3422160"/>
              <a:ext cx="76320" cy="148680"/>
              <a:chOff x="4572000" y="3422160"/>
              <a:chExt cx="76320" cy="148680"/>
            </a:xfrm>
          </p:grpSpPr>
          <p:sp>
            <p:nvSpPr>
              <p:cNvPr id="232" name=""/>
              <p:cNvSpPr/>
              <p:nvPr/>
            </p:nvSpPr>
            <p:spPr>
              <a:xfrm>
                <a:off x="457200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4832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4" name=""/>
          <p:cNvSpPr/>
          <p:nvPr/>
        </p:nvSpPr>
        <p:spPr>
          <a:xfrm flipV="1">
            <a:off x="6781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/>
          <p:nvPr/>
        </p:nvSpPr>
        <p:spPr>
          <a:xfrm>
            <a:off x="7010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7162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"/>
          <p:cNvSpPr/>
          <p:nvPr/>
        </p:nvSpPr>
        <p:spPr>
          <a:xfrm>
            <a:off x="7391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7543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"/>
          <p:cNvSpPr/>
          <p:nvPr/>
        </p:nvSpPr>
        <p:spPr>
          <a:xfrm>
            <a:off x="7772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029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791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6172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6400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553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8765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114800" y="4572000"/>
            <a:ext cx="1447560" cy="785520"/>
            <a:chOff x="4114800" y="4572000"/>
            <a:chExt cx="1447560" cy="785520"/>
          </a:xfrm>
        </p:grpSpPr>
        <p:sp>
          <p:nvSpPr>
            <p:cNvPr id="252" name=""/>
            <p:cNvSpPr/>
            <p:nvPr/>
          </p:nvSpPr>
          <p:spPr>
            <a:xfrm>
              <a:off x="4114800" y="45720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4724280" y="4870080"/>
              <a:ext cx="76320" cy="148680"/>
              <a:chOff x="4724280" y="4870080"/>
              <a:chExt cx="76320" cy="148680"/>
            </a:xfrm>
          </p:grpSpPr>
          <p:sp>
            <p:nvSpPr>
              <p:cNvPr id="254" name=""/>
              <p:cNvSpPr/>
              <p:nvPr/>
            </p:nvSpPr>
            <p:spPr>
              <a:xfrm>
                <a:off x="472428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0060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6" name=""/>
          <p:cNvSpPr/>
          <p:nvPr/>
        </p:nvSpPr>
        <p:spPr>
          <a:xfrm flipV="1">
            <a:off x="6934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>
            <a:off x="7162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7315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7696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7924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482-BE26-4D0E-9127-F6A2C268A02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523880" y="1600200"/>
            <a:ext cx="16765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  O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2209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3809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981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352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"/>
          <p:cNvSpPr/>
          <p:nvPr/>
        </p:nvSpPr>
        <p:spPr>
          <a:xfrm>
            <a:off x="3581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733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962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11480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434340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495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876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5105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2000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438280" y="1600200"/>
            <a:ext cx="1447560" cy="785520"/>
            <a:chOff x="2438280" y="1600200"/>
            <a:chExt cx="1447560" cy="785520"/>
          </a:xfrm>
        </p:grpSpPr>
        <p:sp>
          <p:nvSpPr>
            <p:cNvPr id="280" name=""/>
            <p:cNvSpPr/>
            <p:nvPr/>
          </p:nvSpPr>
          <p:spPr>
            <a:xfrm>
              <a:off x="2438280" y="16002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3047760" y="1898280"/>
              <a:ext cx="76320" cy="148680"/>
              <a:chOff x="3047760" y="1898280"/>
              <a:chExt cx="76320" cy="148680"/>
            </a:xfrm>
          </p:grpSpPr>
          <p:sp>
            <p:nvSpPr>
              <p:cNvPr id="282" name=""/>
              <p:cNvSpPr/>
              <p:nvPr/>
            </p:nvSpPr>
            <p:spPr>
              <a:xfrm>
                <a:off x="3047760" y="18982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24080" y="18982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 flipV="1">
            <a:off x="525780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63868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2133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019920" y="21333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6248520" y="21337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76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57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638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6019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6248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400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4724280" y="37335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962520" y="3124080"/>
            <a:ext cx="1447560" cy="785520"/>
            <a:chOff x="3962520" y="3124080"/>
            <a:chExt cx="1447560" cy="785520"/>
          </a:xfrm>
        </p:grpSpPr>
        <p:sp>
          <p:nvSpPr>
            <p:cNvPr id="302" name=""/>
            <p:cNvSpPr/>
            <p:nvPr/>
          </p:nvSpPr>
          <p:spPr>
            <a:xfrm>
              <a:off x="3962520" y="312408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572000" y="3422160"/>
              <a:ext cx="76320" cy="148680"/>
              <a:chOff x="4572000" y="3422160"/>
              <a:chExt cx="76320" cy="148680"/>
            </a:xfrm>
          </p:grpSpPr>
          <p:sp>
            <p:nvSpPr>
              <p:cNvPr id="304" name=""/>
              <p:cNvSpPr/>
              <p:nvPr/>
            </p:nvSpPr>
            <p:spPr>
              <a:xfrm>
                <a:off x="457200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48320" y="342216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 flipV="1">
            <a:off x="678168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3657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16292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739152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543800" y="3657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7772400" y="3657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029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5257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5410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5638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791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6019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172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6400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553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6781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4876560" y="51814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114800" y="4572000"/>
            <a:ext cx="1447560" cy="785520"/>
            <a:chOff x="4114800" y="4572000"/>
            <a:chExt cx="1447560" cy="785520"/>
          </a:xfrm>
        </p:grpSpPr>
        <p:sp>
          <p:nvSpPr>
            <p:cNvPr id="324" name=""/>
            <p:cNvSpPr/>
            <p:nvPr/>
          </p:nvSpPr>
          <p:spPr>
            <a:xfrm>
              <a:off x="4114800" y="4572000"/>
              <a:ext cx="14475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–C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4724280" y="4870080"/>
              <a:ext cx="76320" cy="148680"/>
              <a:chOff x="4724280" y="4870080"/>
              <a:chExt cx="76320" cy="148680"/>
            </a:xfrm>
          </p:grpSpPr>
          <p:sp>
            <p:nvSpPr>
              <p:cNvPr id="326" name=""/>
              <p:cNvSpPr/>
              <p:nvPr/>
            </p:nvSpPr>
            <p:spPr>
              <a:xfrm>
                <a:off x="472428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00600" y="4870080"/>
                <a:ext cx="0" cy="1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28" name=""/>
          <p:cNvSpPr/>
          <p:nvPr/>
        </p:nvSpPr>
        <p:spPr>
          <a:xfrm flipV="1">
            <a:off x="693432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716292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31520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7543800" y="51055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7696080" y="51051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7924680" y="51055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2209680" y="1981080"/>
            <a:ext cx="533520" cy="45720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390-5CDA-4E5B-9C75-50512277742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9:29:47Z</dcterms:created>
  <dc:creator>Cheryl Massengale</dc:creator>
  <dc:description/>
  <dc:language>en-US</dc:language>
  <cp:lastModifiedBy>MattJodi</cp:lastModifiedBy>
  <dcterms:modified xsi:type="dcterms:W3CDTF">2008-03-16T13:31:44Z</dcterms:modified>
  <cp:revision>121</cp:revision>
  <dc:subject/>
  <dc:title>Biochemistry of Cells</dc:title>
</cp:coreProperties>
</file>